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F013-068D-49B0-82F3-1B128872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83C6-D295-489A-A6D1-B37D92E1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8F0F-41B8-488B-B2C2-78F6E922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D32-F666-4186-ABAB-CAFE429A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238-3DFC-4192-89BD-48685227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7739-0BFE-48EF-B319-87F09BEA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E64A-E040-40F1-9EED-3E43747E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C294-4B38-4F6D-A612-4BAC7080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DDDD-9C57-4E67-97D3-541EF764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FEA-CDFD-440F-821C-879A9D0B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3004-F170-4224-85E2-A0CFEEDE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D72-9B42-4277-9236-C2283897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FE67-3D56-4261-882F-0EEF6A6A0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0B11-A05C-40F3-AE0B-11524EE08A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embership Quer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ype=17) – запрос о наличии в сети членов групп. Запросы обо всех имеющихся группах – общие запросы – отправляются по адресу 224.0.0.1 ("всем узлам"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embership Repor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ype=22) – уведомление о наличии в сети члена группы (отправляется хостом – членом группы по адресу групп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Leave Grou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ype=23) – уведомление об отсоединении хоста от группы (отправляется отсоединившимся хостом по адресу 224.0.0.2 – "всем маршрутизаторам"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Типы IG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A6D5-D366-49F7-9282-2894BA5079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Веерная рассылк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– наиболее простой метод маршрутизации групповых дейтаграмм, при котором дейтаграмма рассылается во все сети системы независимо от наличия в той или иной сети членов группы. При поступлении групповой дейтаграммы маршрутизатор проверяет, впервые ли он получает эту дейтаграмму. Если да, то маршрутизатор рассылает дейтаграмму через все свои интерфейсы, кроме того, с которого она была получена. Иначе дейтаграмма игнориру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Веерная рассылка (Floo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9F43-FE75-42AA-AF41-9AE34EE677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Остовые деревья (Spanning Tre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87850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98C4-39DF-4986-9F11-E506DE5D42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RPF (Reverse Path Forwar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98560" y="728640"/>
            <a:ext cx="540252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FBF9-9C37-468C-A1BC-CBABBEC0C9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CBT (Core Based Tre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3024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09C3-2731-45C6-B5BF-B0FF8D5F7C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DVMR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Distance Vector Multicast Routing Protocol) – самый старый протокол групповой маршрутизации, он используется в ядре экспериментальной сети MBONE. Протокол работает по технологии RPF с усечением, но для построения деревьев используется собственный дистанционно-векторный протокол, аналогичный протоколу R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4. 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CE59-F96D-4DC6-B820-76EC4CAE36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MOSP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Multicast OSPF) является расширением протокола OSPF. Маршрутизатор, поддерживающий это расширение, устанавливает бит "М" в поле "Options" сообщения "Hello". В базе данных состояния связей вводится дополнительный тип записи: для указанной сети перечисляются все группы, члены которых есть в этой сети. Эти записи, как и все прочие записи базы данных состояния связей, распространяются по системе сетей с помощью протокола веерной рассы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05CD-622D-4540-ABDE-FADF571887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I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Protocol Independent Multicast) – два протокола групповой маршрутизации (для плотного и разреженного расположения членов групп, соответственно dense mode и sparse mode), не зависящие от используемого протокола "обычной" маршрутиз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IM D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PIM Dense Mode) используется в системах сетей с большой плотностью получа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F1E8-E28C-476D-BB90-9A2340780A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IM S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Protocol Independent Multicast, Sparse mode, RFC-2362) применяется для маршрутизации дейтаграмм для малочисленных групп, члены которых находятся далеко друг от друга (в этом случае недостатки метода RPF с усечением становятся существенным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Функционирование протокола можно кратко описать как метод CBT, переходящий в RP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88A2-E520-4ADE-BDB1-EB1CCB6ED3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рименение того или иного протокола групповой маршрутизации существенно зависит от того, плотно или разреженно расположены получатели группового трафика. Для плотного расположения годятся протоколы DVMRP, MOSPF и PIM DM; для разреженного подходят PIM SM и CB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бсу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8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Мультикастин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Укажите основную проблему в задаче передачи мульти­кастингового траф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состоит отличие случаев редкого и плотного расположения получателей мультикастинговых дейтаграмм с точки зрения методов их маршрут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ой протокол используется для отправки IP-дейтаграмм множеству хостов в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ие адреса, назначены для использования мультикастинг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ой основной недостаток использования групповой рассылки на транспортном уров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веерная рассыл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PIM 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Williamson B. "Developing IP Multicast Networks, Volume I". – Cisco Press,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Основные сведения о мультикастинг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Протокол IGM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Маршрутизация групповых дейтаграм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Протоколы маршрутизации групповых дейта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6335-D513-420E-8E05-120EC2B361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Мультикастинго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multicasting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называется рассылка дейтаграмм группе получателей. Для идентификации групп используются специальные адреса получателя; эти адреса назначаются из класса D в диапазоне 224.0.0.0 – 239.255.255.25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ейтаграмма, направленная на групповой адрес, должна быть доставлена всем участникам группы. В дальнейшем в этой главе такие дейтаграммы мы будем называть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групповыми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. Основные с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A758-F178-4E1C-8313-70E5B7EAFA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1 – все узлы в данной се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2 – все маршрутизаторы в данной се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5 – все OSPF-маршрутизато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6 – выделенные OSPF-маршрутизато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9 – маршрутизаторы RIP-2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10 – IGRP-маршрутизато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1.1 – получатели информации по протоколу точного времени NT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Зарезервированные групповые адре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2132-B79E-4FCD-AE76-0BFA246E26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Для организации IP-сети с поддержкой мультикастинга необходимо следующее (RFC-1112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оддержка мультикастинга в стеке TCP/IP расположенных в сети хост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оддержка групповой или широковещательной рассылки на уровне доступа к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DFB2-CB7E-4BD2-A2D3-105F915E82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IG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Internet Group Memebership Protocol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редназначен для регистрации на маршрутизаторе членов групп, находящихся в непосредственно присоединенных к нему сетях. Имея эту информацию, маршрутизатор может сообщать другим маршрутизаторам (с помощью протоколов групповой маршрутизации) о необходимости пересылки ему дейтаграмм для тех или иных груп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. Протокол IG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21CA-ACDD-4E66-B2F1-E0F3F285C8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GMP работает непосредственно поверх протокола IP, и идентифицируется значением 2 в поле "Protocol" заголовка IP-дейта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C417-8F0D-49D0-8E52-BC0E5B15C5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2133720"/>
            <a:ext cx="8424720" cy="406692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yp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8 бит) – тип сообщ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ax Response 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8 бит) – максимальное время отклика, задествовано только в сообщениях типа Membership Que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Checksum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(16 бит) – контрольная сум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Group Addres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32 бита) – групповой IP-адре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ообщение IG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58920" y="907920"/>
            <a:ext cx="846108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4:27Z</dcterms:modified>
  <cp:revision>167</cp:revision>
  <dc:subject/>
  <dc:title>Lecture Template </dc:title>
</cp:coreProperties>
</file>